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5B1-C76A-41D3-9A41-3520F656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- Microso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CKET - 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 proto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(alfa) is a periodic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BD5-200C-4EDE-B448-AEB5C705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01F-48B7-4AA9-A576-C9150497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06E-DBE9-41F4-8464-BC42283D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AF2-0F45-49F6-8461-B3269D85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5537-846F-4A50-A9A7-753457FB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E689-86D8-4922-B2DE-6DA6BA9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1A0-2AF1-4F34-BECE-C18DBF5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21CE-698F-457C-83D3-D7A11724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96EB-59D6-40C2-9339-695CC78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CE5-1444-4D31-94BD-9345269F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E492-1A1D-434B-A6C8-B203744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36A-10D5-4A72-841B-F1AF1167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976-ED2C-4CAA-8EC3-D09FEE56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FFCE-A618-43C1-8DDE-9DD4577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A59-22DE-4FEA-B207-F44E00A3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C6B-0F54-42B5-AD8B-0696FE9F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05A-508B-4AE8-A25E-046BA7EB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53F-5172-4608-9732-B949FD6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DB4-0667-467C-A6F9-274BF25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9DE-0D6A-4EC0-8FD8-0F9398C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769-92F1-42C8-8818-E28E11B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2B9-9913-4631-A0BE-DD75E1B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297-E13D-4CD4-862D-8EAAAFE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0A4-A437-4D2B-9FD1-CE416670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613200"/>
            <a:ext cx="5562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Grande"/>
              </a:rPr>
              <a:t>Dragoş Niculescu  VOR Base Stations for Indoor 802.11 Positio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F4E-C909-46FE-9929-2046B19ADBD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0C0-5D64-4FFD-9861-2357B0D80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VOR Base Stations for Indoor 802.11 Positioning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oş Niculescu - NEC L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ri Nath - Rutgers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1880" y="6400800"/>
            <a:ext cx="39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this research work was supported by a grant from NS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5257800"/>
            <a:ext cx="7924680" cy="9907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356400" indent="-356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 measuremen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main base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/E/S/W measurements of 3-4 revolution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6324840" cy="477504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F23-CF5E-4188-9966-68C0A23493AD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f1d"/>
                </a:solidFill>
                <a:latin typeface="Arial"/>
              </a:rPr>
              <a:t>angles only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 positioning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7696080" cy="12189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m median position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m if we knew the best pea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248520" cy="45450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A17-E12C-4105-804B-7DF6CDA1043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quantized angl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rounded to 90°, 45° and 22.5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degradation for 22.5° and 45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304920" y="1143000"/>
            <a:ext cx="4343400" cy="29415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800600" y="1171440"/>
            <a:ext cx="4343400" cy="294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02F-000F-41D2-9A9F-EB0D9A56211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can it do better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RBA provides positions using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angles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3.5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zed 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distribution (see pap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t provide </a:t>
            </a:r>
            <a:r>
              <a:rPr b="0" lang="en-US" sz="2800" spc="-1" strike="noStrike">
                <a:solidFill>
                  <a:srgbClr val="ecff1d"/>
                </a:solidFill>
                <a:latin typeface="Arial"/>
              </a:rPr>
              <a:t>ran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4EE-D8CD-4356-9154-4A8DDBA05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34320" y="2514600"/>
            <a:ext cx="1778040" cy="1479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range inferenc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pace atten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(S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by fi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n to be un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btain it from integration of SS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line: 5-fold cross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 from one BS used to derive ranges for all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8m median rang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5m median position err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7400" y="1295280"/>
                <a:ext cx="43434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m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m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705720" y="2286000"/>
            <a:ext cx="2286000" cy="1752480"/>
          </a:xfrm>
          <a:prstGeom prst="wedgeRoundRectCallout">
            <a:avLst>
              <a:gd name="adj1" fmla="val -60624"/>
              <a:gd name="adj2" fmla="val 47101"/>
              <a:gd name="adj3" fmla="val 16667"/>
            </a:avLst>
          </a:prstGeom>
          <a:solidFill>
            <a:srgbClr val="009999">
              <a:alpha val="25000"/>
            </a:srgbClr>
          </a:solidFill>
          <a:ln w="9360">
            <a:solidFill>
              <a:srgbClr val="ffffff">
                <a:alpha val="22000"/>
              </a:srgbClr>
            </a:solidFill>
            <a:miter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708-DA5C-43B6-AC1F-30DA8D8186F9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angles </a:t>
            </a:r>
            <a:r>
              <a:rPr b="1" lang="en-US" sz="4400" spc="-1" strike="noStrike">
                <a:solidFill>
                  <a:srgbClr val="ecff1d"/>
                </a:solidFill>
                <a:latin typeface="Arial"/>
              </a:rPr>
              <a:t>and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 rang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8001000" cy="17528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error sa = 0.4 radians = 21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error sr = 0.2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uncertainty as an elli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ellipse </a:t>
            </a: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increases with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391520" cy="3587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147" name=""/>
          <p:cNvSpPr/>
          <p:nvPr/>
        </p:nvSpPr>
        <p:spPr>
          <a:xfrm>
            <a:off x="8153280" y="525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65F-5224-4463-B9E3-8948D11012A3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angles </a:t>
            </a:r>
            <a:r>
              <a:rPr b="1" lang="en-US" sz="4400" spc="-1" strike="noStrike">
                <a:solidFill>
                  <a:srgbClr val="ecff1d"/>
                </a:solidFill>
                <a:latin typeface="Arial"/>
              </a:rPr>
              <a:t>and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 ranges uncertainty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ombine several readings? simplified Kalman fil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5120" y="1430280"/>
            <a:ext cx="5333760" cy="4916520"/>
          </a:xfrm>
          <a:prstGeom prst="rect">
            <a:avLst/>
          </a:prstGeom>
          <a:ln w="0">
            <a:noFill/>
          </a:ln>
          <a:effectLst>
            <a:outerShdw dist="63572" dir="16985514" blurRad="0" rotWithShape="0">
              <a:srgbClr val="80808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23E-03D6-4A3B-A397-8F122AE2EE84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86868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3.5m+4.5m=2.1m? (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angles </a:t>
            </a:r>
            <a:r>
              <a:rPr b="1" lang="en-US" sz="2800" spc="-1" strike="noStrike">
                <a:solidFill>
                  <a:srgbClr val="ecff1d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 ranges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5181120"/>
            <a:ext cx="8077320" cy="12193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base statio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ter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1m median position error (all 7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5486400" cy="395928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341-F346-4740-9095-F8FA0BA31365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ngulation with large out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re than two ang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rrelation betw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error and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error and 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idor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vegu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ving signal at the mobi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08680" y="3124080"/>
            <a:ext cx="1866960" cy="2210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55627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RBA = VOR bas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complexity into the base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less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no signal strength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type = revolving base s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SS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to der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position error </a:t>
            </a:r>
            <a:r>
              <a:rPr b="0" lang="en-US" sz="2800" spc="-1" strike="noStrike">
                <a:solidFill>
                  <a:srgbClr val="ecff1d"/>
                </a:solidFill>
                <a:latin typeface="Arial"/>
              </a:rPr>
              <a:t>2.1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3.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</a:t>
            </a:r>
            <a:r>
              <a:rPr b="0" lang="en-US" sz="3200" spc="-1" strike="noStrike">
                <a:solidFill>
                  <a:srgbClr val="ecff1d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g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16794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BAA-CA8C-4B40-A305-192CBDCA3E53}" type="slidenum">
              <a:t>19</a:t>
            </a:fld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remove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9144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existing indoor positioning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infrastructure 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cket(MIT), Active badge(Cambridg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ff34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c0f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c0f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ed beacons, ba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c0f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(line of sigh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 strength (SS) map 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dar(Microsoft), R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cff1c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802.11 base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606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 depends on people, furni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606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5200" y="11779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ei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2DD-D1AC-4D0C-9AAF-098077D9F79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14800" cy="46479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existing positioning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ff"/>
                </a:solidFill>
                <a:uFillTx/>
                <a:latin typeface="Arial"/>
                <a:hlinkClick r:id="rId3" action="ppaction://hlinksldjump"/>
              </a:rPr>
              <a:t>SS map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VORBA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y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al 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1752480"/>
            <a:ext cx="4496040" cy="39625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zed 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s and 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12E-0436-411D-B36D-E4D2262A8D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signal strength map example</a:t>
            </a:r>
            <a:r>
              <a:rPr b="1" lang="en-US" sz="1800" spc="-1" strike="noStrike">
                <a:solidFill>
                  <a:srgbClr val="e5ffff"/>
                </a:solidFill>
                <a:latin typeface="Arial"/>
              </a:rPr>
              <a:t>(RADAR)</a:t>
            </a:r>
            <a:endParaRPr b="0" lang="en-US" sz="18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681520" cy="4289400"/>
          </a:xfrm>
          <a:prstGeom prst="rect">
            <a:avLst/>
          </a:prstGeom>
          <a:ln w="9360">
            <a:solidFill>
              <a:srgbClr val="2b548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703440" y="5257800"/>
            <a:ext cx="79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SS ma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r each point, </a:t>
            </a: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st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S to all 5 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meas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S to all BS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match in the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D42-BC55-42B8-9B61-DC1BFAA5066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VORBA = VOR base station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ignal strength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f1d"/>
                </a:solidFill>
                <a:latin typeface="Arial"/>
              </a:rPr>
              <a:t>instead, use sophisticated 802.11 bas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ing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s </a:t>
            </a:r>
            <a:r>
              <a:rPr b="0" lang="en-US" sz="2400" spc="-1" strike="noStrike">
                <a:solidFill>
                  <a:srgbClr val="ecff1d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B00-9066-40CE-AC12-FBCF9B0C560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VORBA prototyp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1238800">
            <a:off x="228600" y="1295280"/>
            <a:ext cx="4721400" cy="34275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3813120" cy="3576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228600" y="52578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top + directional ante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p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5400" y="52578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nna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5E1-EF46-4633-B48D-128F1E17D3B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asic idea (</a:t>
            </a:r>
            <a:r>
              <a:rPr b="0" lang="en-US" sz="4400" spc="-1" strike="noStrike">
                <a:solidFill>
                  <a:srgbClr val="ecff1d"/>
                </a:solidFill>
                <a:latin typeface="Arial"/>
              </a:rPr>
              <a:t>angle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based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5969600">
            <a:off x="6089400" y="996480"/>
            <a:ext cx="2670120" cy="2505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2590920" cy="243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0400" y="510552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4038480" y="3124080"/>
            <a:ext cx="2438640" cy="2286000"/>
          </a:xfrm>
          <a:prstGeom prst="line">
            <a:avLst/>
          </a:prstGeom>
          <a:ln w="184320">
            <a:solidFill>
              <a:srgbClr val="ffffff">
                <a:alpha val="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572000"/>
            <a:ext cx="838080" cy="762120"/>
          </a:xfrm>
          <a:prstGeom prst="line">
            <a:avLst/>
          </a:prstGeom>
          <a:ln w="184320">
            <a:solidFill>
              <a:srgbClr val="ffffff">
                <a:alpha val="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11D-6CB8-4AFD-B22A-CAA479E22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remove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1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1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 repeatCount="indefinite">
                                  <p:stCondLst>
                                    <p:cond delay="3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practical scenari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153280" cy="609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)=signal strength var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077320" cy="38131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14" name=""/>
          <p:cNvGrpSpPr/>
          <p:nvPr/>
        </p:nvGrpSpPr>
        <p:grpSpPr>
          <a:xfrm>
            <a:off x="306360" y="5181480"/>
            <a:ext cx="8230320" cy="1191240"/>
            <a:chOff x="306360" y="5181480"/>
            <a:chExt cx="8230320" cy="1191240"/>
          </a:xfrm>
        </p:grpSpPr>
        <p:sp>
          <p:nvSpPr>
            <p:cNvPr id="115" name=""/>
            <p:cNvSpPr/>
            <p:nvPr/>
          </p:nvSpPr>
          <p:spPr>
            <a:xfrm>
              <a:off x="2287800" y="541008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eak  </a:t>
              </a:r>
              <a:r>
                <a:rPr b="1" lang="en-US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ang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n </a:t>
              </a:r>
              <a:r>
                <a:rPr b="1" lang="en-US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ran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5120" y="5181480"/>
              <a:ext cx="366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ng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cff1d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and / or  </a:t>
              </a:r>
              <a:r>
                <a:rPr b="1" lang="en-US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cff1d"/>
                  </a:solidFill>
                  <a:latin typeface="Arial"/>
                </a:rPr>
                <a:t>posi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an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6360" y="556236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cff1d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SS(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6560" y="5562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cff1d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606-3088-41A1-A6CF-014FE7AA8AE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best peak distribu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153280" cy="12956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5 peaks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peak is first/second </a:t>
            </a:r>
            <a:r>
              <a:rPr b="0" lang="en-US" sz="2800" spc="-1" strike="noStrike">
                <a:solidFill>
                  <a:srgbClr val="ecff1d"/>
                </a:solidFill>
                <a:latin typeface="Arial"/>
              </a:rPr>
              <a:t>9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8686800" cy="347688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B4C-8B0C-43E1-9096-E750AF00F800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other peak distribu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5257800"/>
            <a:ext cx="8839080" cy="9907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ther peaks point away from the true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2640" y="12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496040" cy="3101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419112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goş  Niculescu: VOR Base St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4DF-40B4-4C7D-8A63-70B212F0810D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6:12:57Z</dcterms:created>
  <dc:creator>Administrator Administrator</dc:creator>
  <dc:description/>
  <dc:language>en-US</dc:language>
  <cp:lastModifiedBy>Administrator Administrator</cp:lastModifiedBy>
  <cp:lastPrinted>2004-09-23T22:08:37Z</cp:lastPrinted>
  <dcterms:modified xsi:type="dcterms:W3CDTF">2004-09-23T22:10:32Z</dcterms:modified>
  <cp:revision>46</cp:revision>
  <dc:subject/>
  <dc:title>VOR Base Stations for Indoor 802.11 Positioning</dc:title>
</cp:coreProperties>
</file>